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986-C684-47BC-9300-B01E6073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A36-C629-4F2D-8213-D4AE9C69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16F-FFE4-4ACB-AB15-917F52B8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311-1912-4D79-8B65-4335C534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EBC-CC61-4897-AE61-D020A3FD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085-5586-4FCB-B073-78CC7825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26A-241B-444B-BFC4-79DFCEFF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8B4-51CC-42D5-88F6-A6099B1C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D9D-18EE-40A3-B17F-629D3AE0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9ED-A483-4C81-863D-9B882BD6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E1A-666B-4002-819B-33CEA15A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F67-16EF-4E71-A833-B0850BBD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CEC3-F8C2-4FCC-9B2D-02644E18E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3657600" cy="11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ربي يا نورَ رجائ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إقتبِل من الدع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واجعل الراحل عنّ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دخلُ دارَ البق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ا أبا كلِّ المراح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ا رجاءَ الراقد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إجعلِ الراحلَ عنّ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في عِدادِ الصالح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1:48:19Z</dcterms:created>
  <dc:creator>HANI SAFI</dc:creator>
  <dc:description/>
  <dc:language>en-US</dc:language>
  <cp:lastModifiedBy>HANI SAFI</cp:lastModifiedBy>
  <dcterms:modified xsi:type="dcterms:W3CDTF">2003-05-19T11:48:50Z</dcterms:modified>
  <cp:revision>1</cp:revision>
  <dc:subject/>
  <dc:title>Slide 1</dc:title>
</cp:coreProperties>
</file>